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6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0"/>
            <a:ext cx="296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148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8675640"/>
            <a:ext cx="2963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509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E1D49-124A-4A4A-BD87-A63251E2C92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03170-99BF-421A-99D3-C8800F7A20B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885B2-5C13-42CA-8CC7-830DADEAD3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8F0A7-C9D5-4AC7-9945-8A987BBE136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594D0-F81A-4D31-BCBE-496736A02A0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13E60-6465-4246-A82F-9CE4154EB60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BD70B-9AE2-4E8C-A496-91B2BA6689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D2971-2783-489F-8694-25491D616F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18B5D-327F-47CC-AC87-266929DC827E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BE0CB-4ED0-4C49-8FAF-FE5FF059DD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CACB7-95E3-4BDC-A091-8703CAA142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37C2C-0F35-4DAF-8456-EB283EED4C7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EC67F-065C-4F98-95FA-DCE8D97D749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3B9B2-34B5-43F7-8D96-8ED7B4EB56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AE5C4-10C7-48AE-9ECD-F63605981F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48D13-9609-431D-99F1-B2AD1959703C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00FA9-C0E9-423E-BBF9-8A21F082C8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1818-A5AC-49DD-B948-8DF477B776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55BBE-DBA5-46AA-8F68-8042D6A17A6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E330F-EB74-4C1C-B946-F8376EB65C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60619-E6E6-45E6-972D-623D4966F6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22A28-C798-447D-A959-B4B554DFAA32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0E2E0-2FAE-4989-8392-5FF1319120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2FD30-48AA-4A95-B353-F8B41AC784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D96B9-4ECA-4C22-A6CA-142BB1B36E4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72553-39DA-4FE3-B04B-BAC0C50DC432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85800"/>
            <a:ext cx="4562640" cy="34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84760" y="8685360"/>
            <a:ext cx="295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8FCE-3CAD-487E-9AE8-5B598062A472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1FB62-4956-4C88-92B9-5CE15888FA5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65876-CABA-4079-BE4C-5BAA046F01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C448-1B80-4187-A227-7F130B87D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6840" y="3957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B19B-0DD8-43BF-9CE8-EF31683C8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308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CC36-5948-4D80-A79F-094778316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24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080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68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24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080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3198-A547-47CE-95BF-2950CE896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75E0-F219-4DDF-B974-D987C3BD29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DA2F-00FC-4CF2-93BE-CCC88227EE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432E-CAEA-4DA3-B3DE-2D89E23763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39EF-7B0E-40E0-BBFE-E7414DD20B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316C-150D-444B-AB76-D7AC75DA98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751880" cy="83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7D62-F981-4EA9-BD80-2E12EB806B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45F8-50E3-47DE-8B7D-61D6853FA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EE14-81A0-414C-9F2E-44FE0429C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308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E03F-1239-4A8E-BB90-EB4A877114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F5A4-3BB3-468F-A5A0-9A89957DF0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957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9F20-EB79-489E-824C-7B7A03FE45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308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53F0-A244-42AD-9CB4-C4704C2674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24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8040" y="160452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24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8040" y="3957840"/>
            <a:ext cx="26431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65BF-CCE5-49E4-B873-0B7392305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F7E5-58BA-49A5-809B-AD8EBB406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2098-1C87-4724-A5E2-031DFA142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486D-88D0-47D8-916D-3C12F577A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751880" cy="83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04A2-2CD9-4E77-8246-80C9B7905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2647-2259-4227-A98E-A1E2DE7D2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3080" y="395784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D490-F737-4E02-8F95-4B7BEAAE1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1604520"/>
            <a:ext cx="400572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8209080" cy="21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8929-3D61-4736-9BB3-359B8AAE6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0480" cy="6848640"/>
            <a:chOff x="0" y="0"/>
            <a:chExt cx="9150480" cy="6848640"/>
          </a:xfrm>
        </p:grpSpPr>
        <p:sp>
          <p:nvSpPr>
            <p:cNvPr id="1" name=""/>
            <p:cNvSpPr/>
            <p:nvPr/>
          </p:nvSpPr>
          <p:spPr>
            <a:xfrm>
              <a:off x="8302680" y="1440"/>
              <a:ext cx="831960" cy="6847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e0e0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29844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7932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79840" y="0"/>
              <a:ext cx="374760" cy="684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300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0792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298440" cy="684864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0720" cy="684864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7476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7920" y="0"/>
              <a:ext cx="83196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79640" y="0"/>
              <a:ext cx="222120" cy="6848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5480" y="0"/>
              <a:ext cx="393840" cy="6848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88280" y="0"/>
              <a:ext cx="222120" cy="684864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1960" y="0"/>
              <a:ext cx="106056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59480" y="0"/>
              <a:ext cx="98424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3000" y="0"/>
              <a:ext cx="83160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1080" y="0"/>
              <a:ext cx="374760" cy="684864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3040" y="0"/>
              <a:ext cx="23472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3000" y="0"/>
              <a:ext cx="52704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48440"/>
              <a:ext cx="9134640" cy="70020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5840"/>
              <a:ext cx="9150480" cy="269640"/>
            </a:xfrm>
            <a:custGeom>
              <a:avLst/>
              <a:gdLst>
                <a:gd name="textAreaLeft" fmla="*/ 0 w 9150480"/>
                <a:gd name="textAreaRight" fmla="*/ 9150840 w 91504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2090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0908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"/>
          <p:cNvSpPr/>
          <p:nvPr/>
        </p:nvSpPr>
        <p:spPr>
          <a:xfrm>
            <a:off x="3124080" y="6248520"/>
            <a:ext cx="2887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132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C37B2-919A-438A-BA63-5DED024D8A2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57200" y="6248520"/>
            <a:ext cx="2125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0480" cy="6848640"/>
            <a:chOff x="0" y="0"/>
            <a:chExt cx="9150480" cy="6848640"/>
          </a:xfrm>
        </p:grpSpPr>
        <p:sp>
          <p:nvSpPr>
            <p:cNvPr id="64" name=""/>
            <p:cNvSpPr/>
            <p:nvPr/>
          </p:nvSpPr>
          <p:spPr>
            <a:xfrm>
              <a:off x="8302680" y="1440"/>
              <a:ext cx="831960" cy="6847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e0e0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29844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7932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9840" y="0"/>
              <a:ext cx="374760" cy="68486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300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0792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298440" cy="6848640"/>
            </a:xfrm>
            <a:prstGeom prst="rect">
              <a:avLst/>
            </a:prstGeom>
            <a:gradFill rotWithShape="0">
              <a:gsLst>
                <a:gs pos="0">
                  <a:srgbClr val="511b00"/>
                </a:gs>
                <a:gs pos="50000">
                  <a:srgbClr val="602000"/>
                </a:gs>
                <a:gs pos="100000">
                  <a:srgbClr val="511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0720" cy="6848640"/>
            </a:xfrm>
            <a:prstGeom prst="rect">
              <a:avLst/>
            </a:prstGeom>
            <a:gradFill rotWithShape="0">
              <a:gsLst>
                <a:gs pos="0">
                  <a:srgbClr val="4b19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7476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7920" y="0"/>
              <a:ext cx="83196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79640" y="0"/>
              <a:ext cx="222120" cy="6848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5480" y="0"/>
              <a:ext cx="393840" cy="684864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88280" y="0"/>
              <a:ext cx="222120" cy="684864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1960" y="0"/>
              <a:ext cx="106056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59480" y="0"/>
              <a:ext cx="98424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3000" y="0"/>
              <a:ext cx="83160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1080" y="0"/>
              <a:ext cx="374760" cy="6848640"/>
            </a:xfrm>
            <a:prstGeom prst="rect">
              <a:avLst/>
            </a:prstGeom>
            <a:gradFill rotWithShape="0">
              <a:gsLst>
                <a:gs pos="0">
                  <a:srgbClr val="5c1e00"/>
                </a:gs>
                <a:gs pos="50000">
                  <a:srgbClr val="602000"/>
                </a:gs>
                <a:gs pos="100000">
                  <a:srgbClr val="5c1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3040" y="0"/>
              <a:ext cx="234720" cy="684864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3000" y="0"/>
              <a:ext cx="527040" cy="684864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48440"/>
              <a:ext cx="9134640" cy="70020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5840"/>
              <a:ext cx="9150480" cy="269640"/>
            </a:xfrm>
            <a:custGeom>
              <a:avLst/>
              <a:gdLst>
                <a:gd name="textAreaLeft" fmla="*/ 0 w 9150480"/>
                <a:gd name="textAreaRight" fmla="*/ 9150840 w 91504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70707"/>
                </a:gs>
                <a:gs pos="50000">
                  <a:srgbClr val="000000"/>
                </a:gs>
                <a:gs pos="100000">
                  <a:srgbClr val="07070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75188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243480"/>
            <a:ext cx="2125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87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132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FCF098-9194-4F27-A508-3A36E485246E}" type="slidenum">
              <a:rPr b="0" lang="cs-CZ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09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42960" y="928800"/>
            <a:ext cx="77724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5000" spc="-1" strike="noStrike">
                <a:solidFill>
                  <a:srgbClr val="ffffcc"/>
                </a:solidFill>
                <a:latin typeface="Tahoma"/>
              </a:rPr>
              <a:t>Po stopách a osudech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6429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4880" y="4071960"/>
            <a:ext cx="40971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ahoma"/>
              </a:rPr>
              <a:t>Mgr. Jačmeníková Tere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431640" y="3598920"/>
            <a:ext cx="571500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357800" y="5357880"/>
            <a:ext cx="40971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ěstská knihov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Havíř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39800" y="633240"/>
            <a:ext cx="775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Další osudy ….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429000" y="2500200"/>
            <a:ext cx="1528920" cy="2357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929280" y="257184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85840" y="2571840"/>
            <a:ext cx="144468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785960" y="2571840"/>
            <a:ext cx="1562040" cy="2309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5143680" y="2500200"/>
            <a:ext cx="15937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7240" y="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200" spc="-1" strike="noStrike">
                <a:solidFill>
                  <a:srgbClr val="ffffcc"/>
                </a:solidFill>
                <a:latin typeface="Tahoma"/>
              </a:rPr>
              <a:t>Proto prosím</a:t>
            </a:r>
            <a:br>
              <a:rPr sz="4200"/>
            </a:br>
            <a:r>
              <a:rPr b="1" lang="cs-CZ" sz="4200" spc="-1" strike="noStrike">
                <a:solidFill>
                  <a:srgbClr val="ffffcc"/>
                </a:solidFill>
                <a:latin typeface="Tahoma"/>
              </a:rPr>
              <a:t>NEZAPOMEŇ ME!!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12720" y="1604880"/>
            <a:ext cx="3702240" cy="4525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73520" y="1604880"/>
            <a:ext cx="40147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i="1" lang="cs-CZ" sz="4000" spc="-1" strike="noStrike">
                <a:solidFill>
                  <a:srgbClr val="ffffff"/>
                </a:solidFill>
                <a:latin typeface="Tahoma"/>
              </a:rPr>
              <a:t>K tomu, aby zlo zvítězilo, stačí jediná věc – aby dobří lidé nedělali nic.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4000" spc="-1" strike="noStrike">
                <a:solidFill>
                  <a:srgbClr val="ffffff"/>
                </a:solidFill>
                <a:latin typeface="Tahoma"/>
              </a:rPr>
              <a:t>Edmund Bur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7240" y="41760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200" spc="-1" strike="noStrike">
                <a:solidFill>
                  <a:srgbClr val="ffffcc"/>
                </a:solidFill>
                <a:latin typeface="Tahoma"/>
              </a:rPr>
              <a:t>DĚKUJI ZA POZORNOST:-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19280" y="1800360"/>
            <a:ext cx="395928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65080" y="179280"/>
            <a:ext cx="75945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Nebezpečný symbol bolest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8000" y="2016000"/>
            <a:ext cx="514836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90520" y="757080"/>
            <a:ext cx="35258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Anna Frankov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1640" y="2303640"/>
            <a:ext cx="2928960" cy="378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19680" y="620640"/>
            <a:ext cx="317196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71640" y="360360"/>
            <a:ext cx="583236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Další osudy …..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6360" y="863640"/>
            <a:ext cx="2016000" cy="2987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91280" y="1295280"/>
            <a:ext cx="144000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832360" y="3503520"/>
            <a:ext cx="2163960" cy="3048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47640" y="4032360"/>
            <a:ext cx="1630440" cy="2382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024360" y="1706400"/>
            <a:ext cx="244764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7240" y="-539640"/>
            <a:ext cx="77724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200" spc="-1" strike="noStrike">
                <a:solidFill>
                  <a:srgbClr val="ffffcc"/>
                </a:solidFill>
                <a:latin typeface="Tahoma"/>
                <a:ea typeface="ComicSansMS-Bold"/>
              </a:rPr>
              <a:t>Jozef Gabčík &amp; Jan Kubiš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82720" y="1800360"/>
            <a:ext cx="527364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11080" y="360360"/>
            <a:ext cx="77565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Další osudy ….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31640" y="1782720"/>
            <a:ext cx="2401920" cy="3832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09760" y="1800360"/>
            <a:ext cx="2549520" cy="3768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222960" y="1871640"/>
            <a:ext cx="25606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20720" y="360360"/>
            <a:ext cx="775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6000" spc="-1" strike="noStrike">
                <a:solidFill>
                  <a:srgbClr val="ffff99"/>
                </a:solidFill>
                <a:latin typeface="Times New Roman"/>
                <a:ea typeface="Comic Sans MS"/>
              </a:rPr>
              <a:t>Josef Čape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71880" y="1643040"/>
            <a:ext cx="32320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6720" y="431640"/>
            <a:ext cx="775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200" spc="-1" strike="noStrike">
                <a:solidFill>
                  <a:srgbClr val="ffffcc"/>
                </a:solidFill>
                <a:latin typeface="Tahoma"/>
              </a:rPr>
              <a:t>Další osudy ….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0" y="1649520"/>
            <a:ext cx="2532240" cy="3894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03360" y="1922400"/>
            <a:ext cx="2276280" cy="3333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191280" y="1944720"/>
            <a:ext cx="207648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20720" y="-360360"/>
            <a:ext cx="77691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200" spc="-1" strike="noStrike">
                <a:solidFill>
                  <a:srgbClr val="ffffcc"/>
                </a:solidFill>
                <a:latin typeface="Tahoma"/>
              </a:rPr>
              <a:t>Oskar Schind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143160" y="1714680"/>
            <a:ext cx="2551320" cy="38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7:10:10Z</dcterms:created>
  <dc:creator>detske1</dc:creator>
  <dc:description/>
  <dc:language>en-US</dc:language>
  <cp:lastModifiedBy>Martas</cp:lastModifiedBy>
  <dcterms:modified xsi:type="dcterms:W3CDTF">2015-04-12T09:38:38Z</dcterms:modified>
  <cp:revision>14</cp:revision>
  <dc:subject/>
  <dc:title>Snímek 1</dc:title>
</cp:coreProperties>
</file>